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BAEC-016E-4569-B00D-7E65973AC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0CD8-ACFD-46F8-9198-6F9ADB14E5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0893-7FF1-41B3-BF64-1EBF8069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7647-CC58-4DFD-8710-561CDF61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51C-324A-43CC-853F-C6CB688B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1100-D3C7-405D-AB07-E0095846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13A6-2464-4093-A8DC-2776E9B2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F475-33D1-4961-ABE7-1B388727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B58D-1C0E-424A-AA26-0B63FA44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3C3B-F62B-46F0-B694-DBDA1CD2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7931-9BC6-47FA-9358-572609AB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6B11-2419-45DA-B281-E488A547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4A30-4DA0-4FE3-BCA0-DF123CC5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B83B-5989-44BF-BAE0-A03FCF37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5C9A-D313-428B-B0AB-1EC511F4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5B07-8006-4869-98C9-CDD81848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4AA8-8773-4780-A43B-DDF51A8A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F997-B04C-4E4E-A3B0-4DA21DE3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29AD-E9C1-4AC9-AEA4-F1B8451C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3EDC5-C501-4362-B209-D4933A9C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3E595-B9A9-4ACA-B8C7-02DBE0A8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746F4-C0A4-40E9-9EC3-808FC630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9544D-5C9A-4B69-8184-EBB31BB9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86B1F-47CB-47CE-ACC2-5DA7B732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3AB1-B37C-4517-B58C-1F9EC908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BF18F-1AC6-4007-8F83-EDF978A3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E0977-E1CB-4CDB-9E86-C2B5D82A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6555E-D626-4179-AEF7-BAFD4BA5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082DA-0049-4DB4-9FAB-3B71C187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B642D-BBFB-4285-876B-25EFCD0B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8FFC4-2D76-4472-B2AE-E0BBCBC3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D6D02-F12E-446E-BCDE-6BEF34C0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C05F6-5B7D-4BEE-990E-F63DF2A5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BABF5-3489-42FB-A100-6FAC9F34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BCCE7-6FDE-462A-B10B-07AA8A64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F26-B197-4645-A3FB-6C175D87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6D894-BD22-43BB-A3E4-E8569AD2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9BD14-7098-4C66-8CBF-1CCF354D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08172-D32B-423E-89CB-82967953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ABF68-D1CB-4409-9106-516EDE1F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35D19-085B-4571-81CB-7C64925B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CC973-5D62-4FE5-A346-BCC3626F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9C927-F7BB-450B-BC34-F5CBE90E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F6C75-58A8-4560-B673-72D47C61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813D5-C8DB-4D61-90EF-D98CE41F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23832-BD5C-4308-9F16-FCF4F0AA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D36A-17C6-40B0-BECA-3A3FB46F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2B5CC-8633-4DDB-8C69-6CEF84C1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4FFDD-45DD-488C-A387-FBE55386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4D230-F608-4B45-9353-3569D0EA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2E711-BEF1-4C72-8C7D-1FA87709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B1CA1-65F9-428D-B348-A2DF5177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36487-D004-4039-BBD9-DEC4B562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110B0-FAF7-467B-9D66-B002D8F3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ABDD7-D612-4B8E-B62A-43609062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65700-F2D6-4DA6-A9E1-AC29ECDA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AF9D4-143F-40A1-9813-8E0DB8EB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FDD-9CCE-4540-82AF-8DADBCE2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B07D7-3290-40C2-9CD5-5785C2BD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F304F-C383-4D62-A661-597747DD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C7388-E811-47BA-B0B2-C9538107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FFA58-071D-4C1C-B221-32534E8C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F6490-2EFF-4BF1-ADBA-0F9373CC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E9219-5352-4341-99D5-DE285721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E8135-FE8B-4D1A-9E3D-77596DAA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D78D6-D0E4-436B-AE6D-80BB6EC7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07BC4-7CEC-4DE1-B32D-2A972365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D1E43-71AD-4600-84A1-8257078D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A81E-EF9F-477E-A865-EFAD93B2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7317B-409A-4990-AB4B-878EEE74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1B477-79A0-4F4F-982F-C51D9613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6982D-4D07-4256-9A19-2EED1F01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910-E2E1-45C7-8AA1-0FB254F3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4D89-BD23-4D95-9CFC-D68ACEDC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B510-70B8-423D-9B3A-F421EDB67705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Question 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0D05-8536-4215-8752-D0B533FB951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D528-DFE2-4591-BC56-FCE7CECE9ABB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Question 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64E1-5E58-4E97-9E16-F8D61AAEA7C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EDBC-B0A1-4EBA-A90C-757EA1E26E71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Question 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529E-49C4-4E76-9B73-8B96D8612F2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C811-33DA-4C84-93E8-DC5CB85A61D1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Question 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0D3B-71CC-4999-B6BE-780CFE10282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D1A6-2384-4C27-B867-BD919AE02C94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Question 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0E4A-BCB3-4E07-AB39-3DFBA581629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2CBA-CE2C-499C-8567-F7632190C50F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Question 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2772-0F8D-4915-B8EE-DA9835D9AFC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and your partner may work together on this assignment, but you each must have the answers written on your own pap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304920" y="533412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Notice the questions start with number 2, there is no number 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a) Write a sentence describing the slope in this problem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b) Is this a positive or negative correlation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) Write an equation representing the function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weight of a rainbow fish increases 1 pound for every 2 inches it grow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7391520" y="6421320"/>
            <a:ext cx="152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9a98"/>
                </a:solidFill>
                <a:latin typeface="Arial"/>
              </a:rPr>
              <a:t>Question #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ooter Placeholder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a) Write a sentence describing the slope in this problem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b) Is this a positive or negative correlation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) Write an equation representing the function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 buy a new car for $24000 and every month it depreciates in value by $500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7391520" y="6421320"/>
            <a:ext cx="152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2462B135-7905-4568-AD81-7C2A16CA0DF2}" type="slidenum">
              <a:rPr b="0" lang="en-US" sz="18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a) Write a sentence describing the slope in this problem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b) Is this a positive or negative correlation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) Write an equation representing the function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ery day your book is overdue at the library costs another 20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7391520" y="6421320"/>
            <a:ext cx="152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8CAC06B4-1E18-4169-AB04-A54CC5FDF29F}" type="slidenum">
              <a:rPr b="0" lang="en-US" sz="2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rite a scenario that would describe this graph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5" name="Content Placeholder 3" descr=""/>
          <p:cNvPicPr/>
          <p:nvPr/>
        </p:nvPicPr>
        <p:blipFill>
          <a:blip r:embed="rId1"/>
          <a:stretch/>
        </p:blipFill>
        <p:spPr>
          <a:xfrm>
            <a:off x="2205000" y="1897200"/>
            <a:ext cx="3971880" cy="3933720"/>
          </a:xfrm>
          <a:prstGeom prst="rect">
            <a:avLst/>
          </a:prstGeom>
          <a:ln w="0">
            <a:noFill/>
          </a:ln>
        </p:spPr>
      </p:pic>
      <p:sp>
        <p:nvSpPr>
          <p:cNvPr id="306" name="Slide Number Placeholder 4"/>
          <p:cNvSpPr/>
          <p:nvPr/>
        </p:nvSpPr>
        <p:spPr>
          <a:xfrm>
            <a:off x="7391520" y="6421320"/>
            <a:ext cx="152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68284402-A9FD-4537-BC2A-07712ECBB45B}" type="slidenum">
              <a:rPr b="0" lang="en-US" sz="2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rite a scenario that would describe this graph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9" name="Content Placeholder 3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310" name="Slide Number Placeholder 4"/>
          <p:cNvSpPr/>
          <p:nvPr/>
        </p:nvSpPr>
        <p:spPr>
          <a:xfrm>
            <a:off x="7391520" y="6421320"/>
            <a:ext cx="152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27ABBD60-1B80-4AAB-8B28-BF94226F2FCC}" type="slidenum">
              <a:rPr b="0" lang="en-US" sz="2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Footer Placeholder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rite a scenario that would describe this graph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3" name="Content Placeholder 3" descr=""/>
          <p:cNvPicPr/>
          <p:nvPr/>
        </p:nvPicPr>
        <p:blipFill>
          <a:blip r:embed="rId1"/>
          <a:stretch/>
        </p:blipFill>
        <p:spPr>
          <a:xfrm>
            <a:off x="2195640" y="1906560"/>
            <a:ext cx="3990960" cy="3914640"/>
          </a:xfrm>
          <a:prstGeom prst="rect">
            <a:avLst/>
          </a:prstGeom>
          <a:ln w="0">
            <a:noFill/>
          </a:ln>
        </p:spPr>
      </p:pic>
      <p:sp>
        <p:nvSpPr>
          <p:cNvPr id="314" name="Slide Number Placeholder 4"/>
          <p:cNvSpPr/>
          <p:nvPr/>
        </p:nvSpPr>
        <p:spPr>
          <a:xfrm>
            <a:off x="7086600" y="6421320"/>
            <a:ext cx="182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99A8F0CE-6EF4-4F68-9FE1-1A0C037DE335}" type="slidenum">
              <a:rPr b="0" lang="en-US" sz="2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ooter Placeholder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rite a scenario that would describe this graph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7" name="Content Placeholder 4" descr=""/>
          <p:cNvPicPr/>
          <p:nvPr/>
        </p:nvPicPr>
        <p:blipFill>
          <a:blip r:embed="rId1"/>
          <a:stretch/>
        </p:blipFill>
        <p:spPr>
          <a:xfrm>
            <a:off x="2176560" y="1900080"/>
            <a:ext cx="4029120" cy="3924360"/>
          </a:xfrm>
          <a:prstGeom prst="rect">
            <a:avLst/>
          </a:prstGeom>
          <a:ln w="0">
            <a:noFill/>
          </a:ln>
        </p:spPr>
      </p:pic>
      <p:sp>
        <p:nvSpPr>
          <p:cNvPr id="318" name="Slide Number Placeholder 3"/>
          <p:cNvSpPr/>
          <p:nvPr/>
        </p:nvSpPr>
        <p:spPr>
          <a:xfrm>
            <a:off x="7238880" y="6421320"/>
            <a:ext cx="1676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8D3D280D-EA85-4917-80DC-EDB674571E7A}" type="slidenum">
              <a:rPr b="0" lang="en-US" sz="18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Footer Placeholder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rite a scenario that would describe this graph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21" name="Content Placeholder 4" descr=""/>
          <p:cNvPicPr/>
          <p:nvPr/>
        </p:nvPicPr>
        <p:blipFill>
          <a:blip r:embed="rId1"/>
          <a:stretch/>
        </p:blipFill>
        <p:spPr>
          <a:xfrm>
            <a:off x="2209680" y="1900080"/>
            <a:ext cx="3962520" cy="3924360"/>
          </a:xfrm>
          <a:prstGeom prst="rect">
            <a:avLst/>
          </a:prstGeom>
          <a:ln w="0">
            <a:noFill/>
          </a:ln>
        </p:spPr>
      </p:pic>
      <p:sp>
        <p:nvSpPr>
          <p:cNvPr id="322" name="Slide Number Placeholder 3"/>
          <p:cNvSpPr/>
          <p:nvPr/>
        </p:nvSpPr>
        <p:spPr>
          <a:xfrm>
            <a:off x="7315200" y="6421320"/>
            <a:ext cx="1600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752A0607-2F2A-4859-9EB3-783CEC69080D}" type="slidenum">
              <a:rPr b="0" lang="en-US" sz="18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Footer Placeholder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rite a scenario that would describe this graph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25" name="Content Placeholder 4" descr=""/>
          <p:cNvPicPr/>
          <p:nvPr/>
        </p:nvPicPr>
        <p:blipFill>
          <a:blip r:embed="rId1"/>
          <a:stretch/>
        </p:blipFill>
        <p:spPr>
          <a:xfrm>
            <a:off x="2228760" y="1890720"/>
            <a:ext cx="3924360" cy="3943440"/>
          </a:xfrm>
          <a:prstGeom prst="rect">
            <a:avLst/>
          </a:prstGeom>
          <a:ln w="0">
            <a:noFill/>
          </a:ln>
        </p:spPr>
      </p:pic>
      <p:sp>
        <p:nvSpPr>
          <p:cNvPr id="326" name="Slide Number Placeholder 3"/>
          <p:cNvSpPr/>
          <p:nvPr/>
        </p:nvSpPr>
        <p:spPr>
          <a:xfrm>
            <a:off x="7238880" y="6421320"/>
            <a:ext cx="1676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C3A38D6B-796A-4B02-B443-66877F9E759D}" type="slidenum">
              <a:rPr b="0" lang="en-US" sz="18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a) Write a sentence describing the slope in this problem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b) Is this a positive or negative correlation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) Write an equation representing the function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57200" y="2286000"/>
          <a:ext cx="7924680" cy="4280040"/>
        </p:xfrm>
        <a:graphic>
          <a:graphicData uri="http://schemas.openxmlformats.org/drawingml/2006/table">
            <a:tbl>
              <a:tblPr/>
              <a:tblGrid>
                <a:gridCol w="3962520"/>
                <a:gridCol w="3962160"/>
              </a:tblGrid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x (number of cards bought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y (money spent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64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64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64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  <p:sp>
        <p:nvSpPr>
          <p:cNvPr id="266" name="Slide Number Placeholder 5"/>
          <p:cNvSpPr/>
          <p:nvPr/>
        </p:nvSpPr>
        <p:spPr>
          <a:xfrm>
            <a:off x="7620120" y="6421320"/>
            <a:ext cx="1295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18089A30-7908-450B-93AD-82C039AEF737}" type="slidenum">
              <a:rPr b="0" lang="en-US" sz="2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a) Write a sentence describing the slope in this problem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b) Is this a positive or negative correlation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) Write an equation representing the function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533520" y="2286000"/>
          <a:ext cx="8153280" cy="431496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15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x (the distance from Antarctica in miles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y (the temperature in °F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56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  <p:sp>
        <p:nvSpPr>
          <p:cNvPr id="269" name="Slide Number Placeholder 5"/>
          <p:cNvSpPr/>
          <p:nvPr/>
        </p:nvSpPr>
        <p:spPr>
          <a:xfrm>
            <a:off x="7848720" y="6421320"/>
            <a:ext cx="11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5FC317EC-0B93-45A8-9943-623BC79DC526}" type="slidenum">
              <a:rPr b="0" lang="en-US" sz="2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a) Write a sentence describing the slope in this problem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b) Is this a positive or negative correlation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) Write an equation representing the function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0" y="2475000"/>
          <a:ext cx="9144000" cy="38494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041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x (days into winter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y (the temperature in ºC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56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  <p:sp>
        <p:nvSpPr>
          <p:cNvPr id="272" name="Slide Number Placeholder 4"/>
          <p:cNvSpPr/>
          <p:nvPr/>
        </p:nvSpPr>
        <p:spPr>
          <a:xfrm>
            <a:off x="7315200" y="6421320"/>
            <a:ext cx="1600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61EC1382-8D43-4638-9F2D-73826C721961}" type="slidenum">
              <a:rPr b="0" lang="en-US" sz="2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a) Write a sentence describing the slope in this problem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b) Is this a positive or negative correlation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) Write an equation representing the function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76320" y="2214720"/>
          <a:ext cx="9067680" cy="4416120"/>
        </p:xfrm>
        <a:graphic>
          <a:graphicData uri="http://schemas.openxmlformats.org/drawingml/2006/table">
            <a:tbl>
              <a:tblPr/>
              <a:tblGrid>
                <a:gridCol w="4533840"/>
                <a:gridCol w="4533840"/>
              </a:tblGrid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x (people who come in the room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y (the amount of work that gets done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  <p:sp>
        <p:nvSpPr>
          <p:cNvPr id="275" name="Slide Number Placeholder 4"/>
          <p:cNvSpPr/>
          <p:nvPr/>
        </p:nvSpPr>
        <p:spPr>
          <a:xfrm>
            <a:off x="7467480" y="6421320"/>
            <a:ext cx="144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03062BA9-CC3C-4BB6-AB44-740A5E67FDCF}" type="slidenum">
              <a:rPr b="0" lang="en-US" sz="2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a) Write a sentence describing the slope in this problem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b) Is this a positive or negative correlation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) Write an equation representing the function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57200" y="2376360"/>
          <a:ext cx="8229600" cy="4416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x (number of tardies to class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y (scores on math tests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  <p:sp>
        <p:nvSpPr>
          <p:cNvPr id="278" name="Slide Number Placeholder 4"/>
          <p:cNvSpPr/>
          <p:nvPr/>
        </p:nvSpPr>
        <p:spPr>
          <a:xfrm>
            <a:off x="6858000" y="6421320"/>
            <a:ext cx="2057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9a98"/>
                </a:solidFill>
                <a:latin typeface="Arial"/>
              </a:rPr>
              <a:t>Question #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Footer Placeholder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a) Write a sentence describing the slope in this problem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b) Is this a positive or negative correlation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) Write an equation representing the function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5699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ery pound of crab can be purchased at the market for $18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238880" y="6421320"/>
            <a:ext cx="1676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333C0B1A-28DB-49EF-9E4C-2DB29D32A55D}" type="slidenum">
              <a:rPr b="0" lang="en-US" sz="24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a) Write a sentence describing the slope in this problem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b) Is this a positive or negative correlation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) Write an equation representing the function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ery year, the polar icecaps melt at a rate of 4 yards. They started with 4,378,321 yard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162920" y="6421320"/>
            <a:ext cx="175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58F29CAF-3E9A-460F-87B2-1C338648995B}" type="slidenum">
              <a:rPr b="0" lang="en-US" sz="2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a) Write a sentence describing the slope in this problem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b) Is this a positive or negative correlation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) Write an equation representing the function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rental car company offers cars for $100 and an additional charge of 80₵ per mile travel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7315200" y="6421320"/>
            <a:ext cx="1600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9a98"/>
                </a:solidFill>
                <a:latin typeface="Arial"/>
              </a:rPr>
              <a:t>Question </a:t>
            </a:r>
            <a:r>
              <a:rPr b="0" lang="en-US" sz="1800" spc="-1" strike="noStrike">
                <a:solidFill>
                  <a:srgbClr val="9b9a98"/>
                </a:solidFill>
                <a:latin typeface="Arial"/>
              </a:rPr>
              <a:t>#</a:t>
            </a:r>
            <a:fld id="{3F090A5C-4672-4B8A-93A0-B2953EDC714A}" type="slidenum">
              <a:rPr b="0" lang="en-US" sz="18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9:56:22Z</dcterms:created>
  <dc:creator>.</dc:creator>
  <dc:description/>
  <dc:language>en-US</dc:language>
  <cp:lastModifiedBy>.</cp:lastModifiedBy>
  <dcterms:modified xsi:type="dcterms:W3CDTF">2014-02-28T14:30:51Z</dcterms:modified>
  <cp:revision>41</cp:revision>
  <dc:subject/>
  <dc:title>Slide 1</dc:title>
</cp:coreProperties>
</file>